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37.jpeg" ContentType="image/jpeg"/>
  <Override PartName="/ppt/media/image27.wmf" ContentType="image/x-wmf"/>
  <Override PartName="/ppt/media/image25.wmf" ContentType="image/x-wmf"/>
  <Override PartName="/ppt/media/image15.jpeg" ContentType="image/jpeg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6.jpeg" ContentType="image/jpeg"/>
  <Override PartName="/ppt/media/image26.wmf" ContentType="image/x-wmf"/>
  <Override PartName="/ppt/media/image14.jpeg" ContentType="image/jpeg"/>
  <Override PartName="/ppt/media/image1.png" ContentType="image/png"/>
  <Override PartName="/ppt/media/image29.wmf" ContentType="image/x-wmf"/>
  <Override PartName="/ppt/media/image17.jpeg" ContentType="image/jpeg"/>
  <Override PartName="/ppt/media/image45.wmf" ContentType="image/x-wmf"/>
  <Override PartName="/ppt/media/image3.png" ContentType="image/png"/>
  <Override PartName="/ppt/media/image2.png" ContentType="image/png"/>
  <Override PartName="/ppt/media/image4.jpeg" ContentType="image/jpeg"/>
  <Override PartName="/ppt/media/image20.wmf" ContentType="image/x-wmf"/>
  <Override PartName="/ppt/media/image40.wmf" ContentType="image/x-wmf"/>
  <Override PartName="/ppt/media/image34.jpeg" ContentType="image/jpeg"/>
  <Override PartName="/ppt/media/image35.jpeg" ContentType="image/jpeg"/>
  <Override PartName="/ppt/media/image10.jpeg" ContentType="image/jpeg"/>
  <Override PartName="/ppt/media/image39.wmf" ContentType="image/x-wmf"/>
  <Override PartName="/ppt/media/image8.jpeg" ContentType="image/jpeg"/>
  <Override PartName="/ppt/media/image41.wmf" ContentType="image/x-wmf"/>
  <Override PartName="/ppt/media/image30.wmf" ContentType="image/x-wmf"/>
  <Override PartName="/ppt/media/image33.jpeg" ContentType="image/jpeg"/>
  <Override PartName="/ppt/media/image42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46.wmf" ContentType="image/x-wmf"/>
  <Override PartName="/ppt/media/image47.wmf" ContentType="image/x-wmf"/>
  <Override PartName="/ppt/media/image49.wmf" ContentType="image/x-wmf"/>
  <Override PartName="/ppt/media/image13.wmf" ContentType="image/x-wmf"/>
  <Override PartName="/ppt/media/image50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18.wmf" ContentType="image/x-wmf"/>
  <Override PartName="/ppt/media/image36.jpeg" ContentType="image/jpeg"/>
  <Override PartName="/ppt/media/image7.jpeg" ContentType="image/jpeg"/>
  <Override PartName="/ppt/media/image38.jpeg" ContentType="image/jpeg"/>
  <Override PartName="/ppt/media/image31.wmf" ContentType="image/x-wmf"/>
  <Override PartName="/ppt/media/image6.wmf" ContentType="image/x-wmf"/>
  <Override PartName="/ppt/media/image48.wmf" ContentType="image/x-wm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4160" y="-34920"/>
            <a:ext cx="19792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934320" y="65959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AAFF-AE0F-4D5B-8AE6-05DB7D7B5BA4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1/26</a:t>
            </a:fld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Seite </a:t>
            </a:r>
            <a:fld id="{F5B637D4-BDCF-4832-9D15-52322F55AA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93939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>
            <a:lum contrast="-20000"/>
          </a:blip>
          <a:stretch/>
        </p:blipFill>
        <p:spPr>
          <a:xfrm>
            <a:off x="7999560" y="0"/>
            <a:ext cx="1144440" cy="7621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93939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dt" idx="1"/>
          </p:nvPr>
        </p:nvSpPr>
        <p:spPr>
          <a:xfrm>
            <a:off x="6756480" y="6593040"/>
            <a:ext cx="1295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2FDE-F4DA-41F6-BF71-81ABBE03F6FC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912080" y="6593040"/>
            <a:ext cx="92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ite </a:t>
            </a:r>
            <a:fld id="{7ABDBA03-00E3-474D-9B38-46BB42BCF5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4"/>
          <a:stretch/>
        </p:blipFill>
        <p:spPr>
          <a:xfrm>
            <a:off x="7996320" y="0"/>
            <a:ext cx="1147680" cy="76212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5"/>
          <a:stretch/>
        </p:blipFill>
        <p:spPr>
          <a:xfrm>
            <a:off x="254160" y="-27000"/>
            <a:ext cx="1979280" cy="990720"/>
          </a:xfrm>
          <a:prstGeom prst="rect">
            <a:avLst/>
          </a:prstGeom>
          <a:ln w="0">
            <a:noFill/>
          </a:ln>
        </p:spPr>
      </p:pic>
      <p:sp>
        <p:nvSpPr>
          <p:cNvPr id="13" name="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93939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7912080" y="6593040"/>
            <a:ext cx="92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olie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fld id="{FD99A8D7-8B75-464F-B206-ECEF596BD8B5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" name="" descr=""/>
          <p:cNvPicPr/>
          <p:nvPr/>
        </p:nvPicPr>
        <p:blipFill>
          <a:blip r:embed="rId6"/>
          <a:stretch/>
        </p:blipFill>
        <p:spPr>
          <a:xfrm>
            <a:off x="7996320" y="0"/>
            <a:ext cx="1147680" cy="762120"/>
          </a:xfrm>
          <a:prstGeom prst="rect">
            <a:avLst/>
          </a:prstGeom>
          <a:ln w="0">
            <a:noFill/>
          </a:ln>
        </p:spPr>
      </p:pic>
      <p:sp>
        <p:nvSpPr>
          <p:cNvPr id="18" name="PlaceHolder 2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51"/>
              </a:spcBef>
              <a:buClr>
                <a:srgbClr val="000000"/>
              </a:buClr>
              <a:buSzPct val="130000"/>
              <a:buFont typeface="Times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451"/>
              </a:spcBef>
              <a:buClr>
                <a:srgbClr val="000000"/>
              </a:buClr>
              <a:buSzPct val="130000"/>
              <a:buFont typeface="Times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35240" indent="-3049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235240" indent="-3049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235240" indent="-3049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468360" y="6589440"/>
            <a:ext cx="446400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Wirkungen von SHS in Banglades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ichael.Blunck@gtz.de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dcol.org/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9999"/>
                </a:solidFill>
                <a:latin typeface="Arial"/>
              </a:rPr>
              <a:t>Sozioökonomische Wirkungen</a:t>
            </a:r>
            <a:br>
              <a:rPr sz="2200"/>
            </a:br>
            <a:r>
              <a:rPr b="1" lang="en-US" sz="2200" spc="-1" strike="noStrike">
                <a:solidFill>
                  <a:srgbClr val="999999"/>
                </a:solidFill>
                <a:latin typeface="Arial"/>
              </a:rPr>
              <a:t>ländlicher Elektrifizierung</a:t>
            </a:r>
            <a:br>
              <a:rPr sz="2200"/>
            </a:br>
            <a:r>
              <a:rPr b="1" lang="en-US" sz="2200" spc="-1" strike="noStrike">
                <a:solidFill>
                  <a:srgbClr val="999999"/>
                </a:solidFill>
                <a:latin typeface="Arial"/>
              </a:rPr>
              <a:t>mit Solar Home Systemen (SHS)</a:t>
            </a:r>
            <a:br>
              <a:rPr sz="2200"/>
            </a:br>
            <a:r>
              <a:rPr b="1" lang="en-US" sz="2200" spc="-1" strike="noStrike">
                <a:solidFill>
                  <a:srgbClr val="999999"/>
                </a:solidFill>
                <a:latin typeface="Arial"/>
              </a:rPr>
              <a:t>- Fallstudie aus Bangladesch -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480" y="530064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rag von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ichael Blunck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ohannes Gutenberg-Universität Mainz</a:t>
            </a:r>
            <a:br>
              <a:rPr sz="1400"/>
            </a:br>
            <a:r>
              <a:rPr b="0" lang="de-DE" sz="14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Michael.Blunck@gtz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459240" y="2349360"/>
            <a:ext cx="2192400" cy="2922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99999"/>
                </a:solidFill>
                <a:latin typeface="Arial"/>
              </a:rPr>
              <a:t>Aktueller Stand des IDCOL-Programms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1700280"/>
            <a:ext cx="821844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1700280"/>
            <a:ext cx="82184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eit 2003: 93 095 SHS durch 16 POs verbreitet (Stand 17.12.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onatlicher Verkauf: ca. 3000 Syste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iel: 200 000 Systeme bis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eit 2006: Förderung durch DGIS-Mittel im Rahmen von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„Energising Development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ktuelle Informationen zum Stand des IDCOL-Programms:</a:t>
            </a:r>
            <a:br>
              <a:rPr sz="1800"/>
            </a:br>
            <a:r>
              <a:rPr b="0" lang="de-DE" sz="18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www.idcol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D4390C-9828-42F3-A825-D6C523D19227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966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99999"/>
                </a:solidFill>
                <a:latin typeface="Arial"/>
              </a:rPr>
              <a:t>2. </a:t>
            </a:r>
            <a:r>
              <a:rPr b="1" lang="en-GB" sz="2200" spc="-1" strike="noStrike">
                <a:solidFill>
                  <a:srgbClr val="999999"/>
                </a:solidFill>
                <a:latin typeface="Arial"/>
              </a:rPr>
              <a:t>Konzeption und Methodik der Studie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69696"/>
                </a:solidFill>
                <a:latin typeface="Arial"/>
              </a:rPr>
              <a:t>Aktivitäten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4360" y="1978200"/>
            <a:ext cx="7632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28640"/>
            <a:ext cx="8229600" cy="1357560"/>
          </a:xfrm>
          <a:prstGeom prst="rect">
            <a:avLst/>
          </a:prstGeom>
          <a:solidFill>
            <a:srgbClr val="d2e0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Qualitative Experteninterviews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Vertretern von NGOs, staatlichen Institutionen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m Unternehmen des Privatsektors sowie Wissenschaftler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insgesamt 9 Interview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3273480"/>
            <a:ext cx="8229600" cy="1295280"/>
          </a:xfrm>
          <a:prstGeom prst="rect">
            <a:avLst/>
          </a:prstGeom>
          <a:solidFill>
            <a:srgbClr val="d2e0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ushaltsbefragung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insgesamt 178 ländlichen Haushal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4857840"/>
            <a:ext cx="8229600" cy="1295280"/>
          </a:xfrm>
          <a:prstGeom prst="rect">
            <a:avLst/>
          </a:prstGeom>
          <a:solidFill>
            <a:srgbClr val="d2e0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spräche und Diskussion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t Dorfbewohner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und Ladenbesitzern lokaler Märk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D21E90-1AA6-4F9A-8209-6A8A404575FF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4360" y="981000"/>
            <a:ext cx="7632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413000"/>
            <a:ext cx="8229600" cy="792000"/>
          </a:xfrm>
          <a:prstGeom prst="rect">
            <a:avLst/>
          </a:prstGeom>
          <a:solidFill>
            <a:srgbClr val="d2e0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ushaltsbefragung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insgesamt 178 ländlichen Haushal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2349360"/>
            <a:ext cx="2459160" cy="792360"/>
          </a:xfrm>
          <a:prstGeom prst="rect">
            <a:avLst/>
          </a:prstGeom>
          <a:solidFill>
            <a:srgbClr val="d2e0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orf A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olda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27640" y="2349360"/>
            <a:ext cx="2459160" cy="792360"/>
          </a:xfrm>
          <a:prstGeom prst="rect">
            <a:avLst/>
          </a:prstGeom>
          <a:solidFill>
            <a:srgbClr val="d2e0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orf C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rth Bakch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48000" y="2349360"/>
            <a:ext cx="2459160" cy="792360"/>
          </a:xfrm>
          <a:prstGeom prst="rect">
            <a:avLst/>
          </a:prstGeom>
          <a:solidFill>
            <a:srgbClr val="d2e0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orf B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hutul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227640" y="3716280"/>
            <a:ext cx="2459160" cy="507960"/>
          </a:xfrm>
          <a:prstGeom prst="rect">
            <a:avLst/>
          </a:prstGeom>
          <a:solidFill>
            <a:srgbClr val="b7d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h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HS-Verbr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3716280"/>
            <a:ext cx="5349960" cy="507960"/>
          </a:xfrm>
          <a:prstGeom prst="rect">
            <a:avLst/>
          </a:prstGeom>
          <a:solidFill>
            <a:srgbClr val="b7d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i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HS-Verbr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99999"/>
                </a:solidFill>
                <a:latin typeface="Arial"/>
              </a:rPr>
              <a:t>Stichprobe Haushaltsbefragung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2963160" y="717840"/>
            <a:ext cx="360360" cy="5349960"/>
          </a:xfrm>
          <a:custGeom>
            <a:avLst/>
            <a:gdLst>
              <a:gd name="textAreaLeft" fmla="*/ 230400 w 360360"/>
              <a:gd name="textAreaRight" fmla="*/ 360720 w 360360"/>
              <a:gd name="textAreaTop" fmla="*/ 139320 h 5349960"/>
              <a:gd name="textAreaBottom" fmla="*/ 5210640 h 534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7271280" y="2168640"/>
            <a:ext cx="360360" cy="244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50920" y="4292640"/>
            <a:ext cx="22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call-Methode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3 Jah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00720" y="429264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gleichsgrup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8360" y="5030640"/>
            <a:ext cx="1800000" cy="1351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627280" y="503064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788000" y="5030640"/>
            <a:ext cx="1800000" cy="1351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6948360" y="5030640"/>
            <a:ext cx="1800360" cy="135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A144A5-FFC2-4E3F-9DAA-278E2ADB6BBE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966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9999"/>
                </a:solidFill>
                <a:latin typeface="Arial"/>
              </a:rPr>
              <a:t>3. Ergebnisse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69696"/>
                </a:solidFill>
                <a:latin typeface="Arial"/>
              </a:rPr>
              <a:t>Situation der Haushalte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1628640"/>
            <a:ext cx="6132600" cy="20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upteinkommensquellen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ndwirtschaft (Reis, Gemüse), Geflügel- und Fischproduktion, Handel mit Agrarprodukten, kleine Handwerks- und Dienstleistungsunternehmen, Saisonarbeit sowie Arbeit auf Tagesbasis in der Landwirtschaft, Auslandsüberweis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Ø-Haushaltseinkomme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4700 Taka (~51 €) / Mon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65120" y="3803760"/>
          <a:ext cx="5165640" cy="27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3803760"/>
                    <a:ext cx="5165640" cy="27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600960" y="5197320"/>
            <a:ext cx="1792080" cy="1344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6603840" y="3753000"/>
            <a:ext cx="1789200" cy="1341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6602400" y="2308320"/>
            <a:ext cx="1789200" cy="1341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6602400" y="863640"/>
            <a:ext cx="1789200" cy="1341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rot="16200000">
            <a:off x="-147600" y="4695120"/>
            <a:ext cx="122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 der H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9080" y="3565440"/>
            <a:ext cx="3132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nkommensverteilu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78311F-EEA9-46C3-A1DC-E0423CCB01FA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69696"/>
                </a:solidFill>
                <a:latin typeface="Arial"/>
              </a:rPr>
              <a:t>Situation der Haushalte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628640"/>
            <a:ext cx="7989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ktoren, die für Wohlbefinden und ein glückliches Leben als wichtig erachtet wer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22360" y="2263680"/>
          <a:ext cx="8128080" cy="423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2360" y="2263680"/>
                    <a:ext cx="8128080" cy="42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5900760" y="5649840"/>
            <a:ext cx="2376360" cy="27648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hrfachnennung mögl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88040" y="6267600"/>
            <a:ext cx="12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 der H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E637A8-222E-44A3-B51F-A6ACBD4FED23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69696"/>
                </a:solidFill>
                <a:latin typeface="Arial"/>
              </a:rPr>
              <a:t>Situation der Haushalte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1628640"/>
            <a:ext cx="7989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uptprobleme der Haushal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20560" y="2263680"/>
          <a:ext cx="7937640" cy="36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263680"/>
                    <a:ext cx="793764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5667480" y="5099040"/>
            <a:ext cx="2376360" cy="27648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hrfachnennung mögl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88040" y="5734080"/>
            <a:ext cx="12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 der H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14983A-E17D-4CBB-B081-21E26101C763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69696"/>
                </a:solidFill>
                <a:latin typeface="Arial"/>
              </a:rPr>
              <a:t>Situation der Haushalte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1628640"/>
            <a:ext cx="7989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 welcher Form könnten die Regierung oder NGOs bei der Lösung der Probleme behilflich sei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22360" y="2349360"/>
          <a:ext cx="7939080" cy="40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2360" y="2349360"/>
                    <a:ext cx="7939080" cy="40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5667480" y="5559480"/>
            <a:ext cx="2376360" cy="27648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hrfachnennung mögl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88040" y="6267600"/>
            <a:ext cx="12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 der H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B0E097-7913-4346-8D0C-54C292E9A209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69696"/>
                </a:solidFill>
                <a:latin typeface="Arial"/>
              </a:rPr>
              <a:t>Situation der Haushalte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1628640"/>
            <a:ext cx="7989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s fehlt hinsichtlich der Dorfinfrastruktu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03040" y="2352600"/>
          <a:ext cx="8562960" cy="40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" y="2352600"/>
                    <a:ext cx="8562960" cy="40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5940360" y="5559480"/>
            <a:ext cx="2376720" cy="27648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hrfachnennung mögl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03640" y="6237360"/>
            <a:ext cx="122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 der H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AF09B5-1FF2-406E-902A-8A2B91147ADF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9999"/>
                </a:solidFill>
                <a:latin typeface="Arial"/>
              </a:rPr>
              <a:t>Gliederung des Vortrags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68360" y="2133720"/>
            <a:ext cx="79898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GTZ/EnDev-Vorhaben in Banglade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nzeption und Methodik der Wirkungsstu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gebnisse der Studi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Situation der Haushal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Nutzung von Elektrizitä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Wirkungen durch SH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Meinungen zu SHS- und Stromnutz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usammenfassung und Empfehl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69696"/>
                </a:solidFill>
                <a:latin typeface="Arial"/>
              </a:rPr>
              <a:t>Nutzung von Elektrizität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27040" y="2535120"/>
          <a:ext cx="2565360" cy="27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" y="2535120"/>
                    <a:ext cx="256536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3403440" y="2589120"/>
          <a:ext cx="2570400" cy="274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03440" y="2589120"/>
                    <a:ext cx="2570400" cy="27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468360" y="1628640"/>
            <a:ext cx="7989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breitung von Stromquellen nach Dörf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6178680" y="2589120"/>
          <a:ext cx="2570040" cy="274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8680" y="2589120"/>
                    <a:ext cx="2570040" cy="27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187280" y="2276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rf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67280" y="23241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rf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04000" y="23241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rf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38400" y="5661000"/>
            <a:ext cx="792000" cy="360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33920" y="5661000"/>
            <a:ext cx="792000" cy="3603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29440" y="5661000"/>
            <a:ext cx="792000" cy="3603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66760" y="566100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25920" y="568476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r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21440" y="568476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in St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32000" y="3021120"/>
            <a:ext cx="6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23760" y="3525840"/>
            <a:ext cx="6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08000" y="3884760"/>
            <a:ext cx="6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16520" y="4005360"/>
            <a:ext cx="62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59280" y="3429000"/>
            <a:ext cx="6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2637000"/>
            <a:ext cx="62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380360" y="4199040"/>
            <a:ext cx="6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77080" y="3139920"/>
            <a:ext cx="6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067280" y="5192640"/>
            <a:ext cx="12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 der H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274E46-83EA-4378-AE43-67D5DBE6DB43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69696"/>
                </a:solidFill>
                <a:latin typeface="Arial"/>
              </a:rPr>
              <a:t>Nutzung von Elektrizität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27040" y="2801880"/>
          <a:ext cx="2565360" cy="27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" y="2801880"/>
                    <a:ext cx="256536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3403440" y="2855880"/>
          <a:ext cx="2570400" cy="274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03440" y="2855880"/>
                    <a:ext cx="2570400" cy="27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468360" y="1628640"/>
            <a:ext cx="7989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breitung von Stromquellen nach Haushaltseinkommensklass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 Dörfern mit SHS-Verbreitu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178680" y="2855880"/>
          <a:ext cx="2570040" cy="274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8680" y="2855880"/>
                    <a:ext cx="2570040" cy="27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600120" y="2271600"/>
            <a:ext cx="245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iedrige Einkomm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 3500 Taka / Mon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48000" y="2271600"/>
            <a:ext cx="279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ttlere Einkomm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500 – 4999 Taka / Mon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229440" y="2271600"/>
            <a:ext cx="2457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ohe Einkomm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gt; 4999 Taka / Mon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38400" y="5805360"/>
            <a:ext cx="792000" cy="360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33920" y="5805360"/>
            <a:ext cx="792000" cy="3603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29440" y="5805360"/>
            <a:ext cx="792000" cy="3603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66760" y="580536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25920" y="58294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r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21440" y="58294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in St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40000" y="2855880"/>
            <a:ext cx="62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30320" y="3624120"/>
            <a:ext cx="6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862280" y="4200480"/>
            <a:ext cx="62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98800" y="4032360"/>
            <a:ext cx="6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59280" y="4129200"/>
            <a:ext cx="6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32160" y="2917800"/>
            <a:ext cx="6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80360" y="4465800"/>
            <a:ext cx="6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77080" y="3406680"/>
            <a:ext cx="6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67280" y="5459400"/>
            <a:ext cx="12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 der H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596360" y="3575160"/>
            <a:ext cx="62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D7B352-49BA-4C28-BAEF-2BB9237A83D1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69696"/>
                </a:solidFill>
                <a:latin typeface="Arial"/>
              </a:rPr>
              <a:t>Nutzung von Elektrizität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8360" y="1628640"/>
            <a:ext cx="7989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tivitäten mit Stromnutzung in HH mit SHS / Batte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5184720" y="2417760"/>
          <a:ext cx="3570480" cy="408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4720" y="2417760"/>
                    <a:ext cx="357048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539640" y="2416320"/>
          <a:ext cx="3511800" cy="409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2416320"/>
                    <a:ext cx="3511800" cy="40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1116000" y="2205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H mit S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24360" y="2205000"/>
            <a:ext cx="22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H mit Batter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75080" y="2732040"/>
            <a:ext cx="21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rnse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75080" y="3279600"/>
            <a:ext cx="213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ushaltsarbei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t Beleuch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357720" y="392760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fladen von Mobiltelefon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78080" y="4648320"/>
            <a:ext cx="273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en / Lern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t Beleuch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57720" y="544500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o hö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79280" y="6308640"/>
            <a:ext cx="388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 der HH mit S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05440" y="6323040"/>
            <a:ext cx="38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 der HH mit Batter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250CBD-9B04-40AB-B1E2-AA5815FA6FE7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119240" y="2060640"/>
            <a:ext cx="75675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% der SHS-Haushalte haben mindestens einmal wöchentlich Besuch durch Mitgliedern von Haushalten ohne St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der SHS-Haushalt ermöglich durchschnittlich 3,4 Haushalten ohne Strom die regelmäßige Nutzung ihres S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69696"/>
                </a:solidFill>
                <a:latin typeface="Arial"/>
              </a:rPr>
              <a:t>Nutzung von Elektrizität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8360" y="1628640"/>
            <a:ext cx="8218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suche durch Nachbarn ohne Strom in HH mit S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916360" y="3805200"/>
          <a:ext cx="5805360" cy="27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3805200"/>
                    <a:ext cx="5805360" cy="27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2411280" y="3284640"/>
            <a:ext cx="42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omverbrauchende Aktivitäte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rch Nachbarn in SHS-Haushal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09720" y="4049640"/>
            <a:ext cx="21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rnse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93800" y="444024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fladen von Mobiltelefon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12720" y="5467320"/>
            <a:ext cx="273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en / Lern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t Beleuch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93800" y="507528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o hö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27640" y="6323040"/>
            <a:ext cx="29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 der SHS-Haushal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967046-6B26-406F-A58C-F55465DC9391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69696"/>
                </a:solidFill>
                <a:latin typeface="Arial"/>
              </a:rPr>
              <a:t>Wirkungen durch SHS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68360" y="1628640"/>
            <a:ext cx="7989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deutendste Veränderungen nach Installation des  S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68280"/>
            <a:ext cx="64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Subjektiver Eindruck der SHS-Nut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378000" y="2135160"/>
          <a:ext cx="8184960" cy="40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2135160"/>
                    <a:ext cx="8184960" cy="40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6156360" y="5373720"/>
            <a:ext cx="2087640" cy="27648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hrfachnennung mögl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577E6C-4728-4A70-9055-747117C99C57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1547640" y="1844640"/>
          <a:ext cx="6008760" cy="369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844640"/>
                    <a:ext cx="6008760" cy="36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69696"/>
                </a:solidFill>
                <a:latin typeface="Arial"/>
              </a:rPr>
              <a:t>Wirkungen durch SHS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8360" y="1628640"/>
            <a:ext cx="7989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r profitiert am meisten vom SH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1268280"/>
            <a:ext cx="64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Subjektiver Eindruck der SHS-Nut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07120" y="2143080"/>
            <a:ext cx="2087280" cy="27648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hrfachnennung mögl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16200000">
            <a:off x="-468720" y="3940200"/>
            <a:ext cx="403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 der SHS-Haushal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124000" y="5664240"/>
            <a:ext cx="2303640" cy="86364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sere Beleuchtu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i der Hausarbe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64000" y="5664240"/>
            <a:ext cx="2303640" cy="86364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sere Beleuchtu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um Lesen / Lern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03640" y="5373720"/>
            <a:ext cx="0" cy="36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588000" y="5373720"/>
            <a:ext cx="0" cy="36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CE9A72-E028-4F4F-AAF0-28C1C67B69EF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69696"/>
                </a:solidFill>
                <a:latin typeface="Arial"/>
              </a:rPr>
              <a:t>Wirkungen durch SHS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8360" y="1628640"/>
            <a:ext cx="7989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etäre Einsparungen durch Einsparung von Keros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1268280"/>
            <a:ext cx="64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Ökonomische Wirk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1496880" cy="19954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2627280" y="1989000"/>
            <a:ext cx="1496880" cy="19954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6084720" y="2347920"/>
            <a:ext cx="1951200" cy="14637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4643280" y="3068640"/>
            <a:ext cx="93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63640" y="4076640"/>
            <a:ext cx="561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onatliche Ausgaben für Beleuchtung (in Taka) in Dorf A +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268280" y="4365720"/>
          <a:ext cx="6328080" cy="1363680"/>
        </p:xfrm>
        <a:graphic>
          <a:graphicData uri="http://schemas.openxmlformats.org/drawingml/2006/table">
            <a:tbl>
              <a:tblPr/>
              <a:tblGrid>
                <a:gridCol w="2109960"/>
                <a:gridCol w="2108160"/>
                <a:gridCol w="2109960"/>
              </a:tblGrid>
              <a:tr h="35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 mit S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 ohne S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de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ros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de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om (SHS/Batteri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de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7d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ede6"/>
                    </a:solidFill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1119240" y="5805360"/>
            <a:ext cx="75675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ch durchschnittlich 36 Monaten entfallen die Kosten für das SHS komplet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e Mehrausgaben amortisieren sich durchschnittlich nach ca. 16 Jahren, schneller bei weiter steigendem Kerosinpreis (Verdopplung alleine in den letzten 3 Jahre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03F994-C986-4C55-8A62-1233636C8301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69696"/>
                </a:solidFill>
                <a:latin typeface="Arial"/>
              </a:rPr>
              <a:t>Wirkungen durch SHS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68360" y="1628640"/>
            <a:ext cx="7989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nkommenssteigerung durch produktive Nutzung des Stro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" y="1268280"/>
            <a:ext cx="64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Ökonomische Wirk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119240" y="2060640"/>
            <a:ext cx="756756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teil der HH mit einkommensschaffenden produktiven Aktivitäten im Haushalt: 7,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äharbeiten (4x), Geflügelfarm (3x), Milchproduktion (3x), Reis schälen (1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tzung von elektrischem Licht zur Produktion: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1x Geflügelfarm (Batterie) &amp; 1x Näharbeiten (SH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schinen oder elektrische Geräte wurden in keinem Haushalt zur Produktion genutz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8360" y="4363920"/>
            <a:ext cx="798984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ine nennenswerte produktive Nutzung der SHS im Untersuchungsgebi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300177-DAD4-4959-8005-32B0740E0A5F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69696"/>
                </a:solidFill>
                <a:latin typeface="Arial"/>
              </a:rPr>
              <a:t>Wirkungen durch SHS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68360" y="1628640"/>
            <a:ext cx="7989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nkommenssteigerung in Läden / Geschäft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" y="1268280"/>
            <a:ext cx="64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Ökonomische Wirk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6507000" y="4935600"/>
            <a:ext cx="2119320" cy="15890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6773760" y="2644920"/>
            <a:ext cx="1587600" cy="21160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6510240" y="882720"/>
            <a:ext cx="2116080" cy="15890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900000" y="2060640"/>
            <a:ext cx="5184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e befragten Läden bestätigten eine verbesserte Kundenattraktivität durch Verwendung des SH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ziehen von größerem Kundenkreis (Beleuchtung, Fernsehgerä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öhere Ausgaben der Stammkundschaft durch längere Aufenthaltszeiten (Fernseh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öhere Ausgaben der Kundschaft durch erweitertes Angebot (z.B. Telef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r Besitz eines SHS wird als wichtiger Faktor im Wettbewerb wahrgenomm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äden ohne SHS verzeichnen rückläufige Kundenzahlen und Einnahm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ttbewerbsverschärf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E2DF57-4EFD-4390-8610-B3C304BF227C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69696"/>
                </a:solidFill>
                <a:latin typeface="Arial"/>
              </a:rPr>
              <a:t>Wirkungen durch SHS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8360" y="1628640"/>
            <a:ext cx="7989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sfluss und Unterhaltung durch TV und Radi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Nutzung von TV- und Radioprogrammen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1268280"/>
            <a:ext cx="64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Soziale Wirk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5181480" y="2424240"/>
          <a:ext cx="3570480" cy="29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424240"/>
                    <a:ext cx="357048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536400" y="2409840"/>
          <a:ext cx="3513240" cy="294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" y="2409840"/>
                    <a:ext cx="3513240" cy="29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1116000" y="2205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H mit Fernsehgerä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259240" y="2205000"/>
            <a:ext cx="327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H mit Rad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75080" y="2565360"/>
            <a:ext cx="21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terhal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75080" y="3068640"/>
            <a:ext cx="21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chrich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357720" y="350028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ld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178080" y="3855960"/>
            <a:ext cx="273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dwirtschaftliche Information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005440" y="5099040"/>
            <a:ext cx="38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 der HH mit Ra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9280" y="5099040"/>
            <a:ext cx="388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 der HH mit T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348000" y="438768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nsti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63640" y="4497480"/>
            <a:ext cx="2087640" cy="27648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hrfachnennung mögl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124000" y="5457960"/>
            <a:ext cx="4319640" cy="923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gative Aspekte (18% der HH mit TV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inder werden vom Lernen abgelen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äufige Besuche durch Nachba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BE497D-8143-466B-9DFA-7E7AACB1F892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966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99999"/>
                </a:solidFill>
                <a:latin typeface="Arial"/>
              </a:rPr>
              <a:t>1. Das GTZ/EnDev-Vorhaben in Bangladesch:</a:t>
            </a:r>
            <a:br>
              <a:rPr sz="2200"/>
            </a:br>
            <a:r>
              <a:rPr b="1" lang="de-DE" sz="2200" spc="-1" strike="noStrike">
                <a:solidFill>
                  <a:srgbClr val="999999"/>
                </a:solidFill>
                <a:latin typeface="Arial"/>
              </a:rPr>
              <a:t>Promotion of the Use of Renewable Energies (PURE)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69696"/>
                </a:solidFill>
                <a:latin typeface="Arial"/>
              </a:rPr>
              <a:t>Wirkungen durch SHS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68360" y="1628640"/>
            <a:ext cx="798984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sfluss und Unterhaltung durch TV und Radio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t is easy for my family to get news and information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7200" y="1268280"/>
            <a:ext cx="64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Soziale Wirk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988400" y="6021360"/>
            <a:ext cx="93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 der H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2806560" y="2714760"/>
          <a:ext cx="6054840" cy="33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06560" y="2714760"/>
                    <a:ext cx="6054840" cy="33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1042920" y="3052800"/>
            <a:ext cx="12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t S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9080" y="3632040"/>
            <a:ext cx="27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hne SH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in Dorf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i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SHS-Verbreitu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08000" y="4280040"/>
            <a:ext cx="31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hne SH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in Dorf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h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SHS-Verbreitu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2EC6AE-B6E2-4258-9BB8-52BFE8D6980C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69696"/>
                </a:solidFill>
                <a:latin typeface="Arial"/>
              </a:rPr>
              <a:t>Wirkungen durch SHS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68360" y="1628640"/>
            <a:ext cx="7989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sfluss und Unterhaltung durch TV und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1268280"/>
            <a:ext cx="64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Soziale Wirk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00000" y="2060640"/>
            <a:ext cx="75582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itive Aspek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rizonterweiterung“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rnsehen und Radio ist für die meisten Haushalten wichtigste Quelle für internationale und nationale Nachrich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ldungsangebo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ldungsprogramme (z.B. Alphabetisierungsprogramme, landwirtschaftliche Weiterbildung, Gesundheitsaufklärung) werden von den meisten Haushalten mit Fernsehgerät genutzt und als sehr nützlich angeseh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terhaltung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 alle Haushalte beschreiben TV und Radio als abwechslungsreiche Unterhaltung bei ansonsten sehr eingeschränktem Freizeitangebot in den Dörfern. Unterhaltung wird als Teil eines verbesserten Lebensstandards empfund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325B49-15C2-446C-9E6D-65ED37AE8EEE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69696"/>
                </a:solidFill>
                <a:latin typeface="Arial"/>
              </a:rPr>
              <a:t>Wirkungen durch SHS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68360" y="1628640"/>
            <a:ext cx="7989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leichtertes Bewegen und Arbeiten im Haushalt durch Beleuch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" y="1268280"/>
            <a:ext cx="64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Soziale Wirk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00000" y="1989000"/>
            <a:ext cx="75582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ssere Beleuchtung im gesamten Haushalt erleichtert die Hausarbeit von Frauen und ermöglicht ein freies Bewegen in allen Räumen ohne eine Lichtquelle mitführen zu müs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ne quantitative Reduzierung der täglichen Arbeitslast durch das SHS konnt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ic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estgestellt wer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8360" y="3498840"/>
            <a:ext cx="7989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längerung der nutzbaren Zeit in die Abendstun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00000" y="3860640"/>
            <a:ext cx="75582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r Tag endet in SHS-Haushalten durchschnittlich ca. 40 Minuten später als in anderen Haushalt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e zusätzlich verfügbare Zeit wird zum größten Teil verwendet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um Fernsehen (alle Haushaltsmitglieder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ür Hausarbeiten (Frauen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um Lesen/Lernen (Kinder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A447C7-1740-42DF-BAD3-BF5DD10F5D1F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69696"/>
                </a:solidFill>
                <a:latin typeface="Arial"/>
              </a:rPr>
              <a:t>Wirkungen durch SHS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8360" y="1700280"/>
            <a:ext cx="8218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besserte Lernbedingungen für Kinder durch bessere Beleuch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" y="1268280"/>
            <a:ext cx="64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Soziale Wirk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00000" y="2060640"/>
            <a:ext cx="75582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indern fällt das Lesen/Lernen in den Abendstunden leichter; Augenprobleme können langfristig vermieden werd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inder in Haushalten mit SHS lernen täglich im Durchschnitt ca. 20 Minuten länger als Kinder anderer Haushalte im gleichen Dorf (+ 20%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8360" y="3284640"/>
            <a:ext cx="867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meidung von Problemen/Unannehmlichkeiten durch Kerosineinsat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900000" y="3645000"/>
            <a:ext cx="75582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s unangenehm empfundene Arbeiten wie das Befüllen von Lampen (Frauen) und das Einkaufen von Kerosin auf dem Markt (Männer) können vermieden wer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e Raumluft wird als sauberer und frischer wahrgenommen; langfristige Vermeidung von gesundheitlichen Problemen durch schlechte Raumbelüftung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kurz- und mittelfristig verbesserte Gesundheitssituation in Haushalten mit SHS konnt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ic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nachgewiesen werd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fälle durch Verwendung von Kerosin können vermieden wer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6B33D2-7377-48D2-A41E-7CF1FBF4CCA3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69696"/>
                </a:solidFill>
                <a:latin typeface="Arial"/>
              </a:rPr>
              <a:t>Wirkungen durch SHS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68360" y="1916280"/>
            <a:ext cx="79898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undlage für Telekommunikation wird geschaff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" y="1268280"/>
            <a:ext cx="64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Soziale Wirk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00000" y="2276640"/>
            <a:ext cx="75582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rch den Einsatz von Ladegeräten am SHS wird zum ersten mal der Einsatz von Mobiltelefonen in Dörfern ohne Stromnetz mögl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68360" y="2852640"/>
            <a:ext cx="798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höhtes subjektives Sicherheitsempfinden durch  Beleuch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00000" y="3213000"/>
            <a:ext cx="7558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sbesondere Diebstahl kann in den Augen der Dorfbewohner durch verbesserte Beleuchtung vermieden wer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 feel safe in my household in the evening.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1117440" y="4365720"/>
          <a:ext cx="6880320" cy="20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7440" y="4365720"/>
                    <a:ext cx="6880320" cy="20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3CDF87-C2B2-414E-94E8-E2E52F6DC887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69696"/>
                </a:solidFill>
                <a:latin typeface="Arial"/>
              </a:rPr>
              <a:t>Wirkungen durch SHS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68360" y="1700280"/>
            <a:ext cx="7989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ziale Aktivitäten in den Abendstunden werden erleicht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" y="1268280"/>
            <a:ext cx="64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Soziale Wirk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00000" y="2060640"/>
            <a:ext cx="75582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urch verbesserte Beleuchtung und Fernsehmöglichkeiten kommt es abends häufiger zu sozialer Interaktion unter den Haushalten im Dor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 often socialise with friends, relatives or neighbours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t our home in the evening.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1122480" y="3500280"/>
          <a:ext cx="6869160" cy="21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2480" y="3500280"/>
                    <a:ext cx="6869160" cy="21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"/>
          <p:cNvSpPr/>
          <p:nvPr/>
        </p:nvSpPr>
        <p:spPr>
          <a:xfrm>
            <a:off x="7523280" y="5445000"/>
            <a:ext cx="12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 der H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762DDF-3DFD-462E-811E-42FA33DC9916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69696"/>
                </a:solidFill>
                <a:latin typeface="Arial"/>
              </a:rPr>
              <a:t>Wirkungen durch SHS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68360" y="2924280"/>
            <a:ext cx="7989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tterieproblemat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" y="1268280"/>
            <a:ext cx="64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Ökologische Wirk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900000" y="3284640"/>
            <a:ext cx="755820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GOs verfügen noch über keine Erfahrung bzgl. Rücklaufquoten der Batterien (Systeme noch zu ne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ur rund ein Drittel der befragten SHS-Haushalte ist sich darüber bewusst, dass die Batterien an die NGOs zurückgeführt werden soll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68360" y="1700280"/>
            <a:ext cx="867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meidung von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900000" y="2060640"/>
            <a:ext cx="75582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nsparung von monatlich ca. 2,6 Liter Kerosin je Haushalt. Die Kerosin- und somit 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Reduktion in Haushalten mit SHS-Einsatz beträgt ca. 80%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2627280" y="4287960"/>
          <a:ext cx="6880320" cy="25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4287960"/>
                    <a:ext cx="6880320" cy="25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861840" y="4879800"/>
            <a:ext cx="2989440" cy="1067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s werden sie mit der Batterie tun, nachdem diese das Ende der Lebensdauer erreicht ha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77080" y="6008760"/>
            <a:ext cx="12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 der SHS-H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24EDB1-7DBD-4707-94B2-172AAC347A5F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1" name=""/>
          <p:cNvGraphicFramePr/>
          <p:nvPr/>
        </p:nvGraphicFramePr>
        <p:xfrm>
          <a:off x="1146240" y="1625760"/>
          <a:ext cx="6880320" cy="46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6240" y="1625760"/>
                    <a:ext cx="6880320" cy="46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69696"/>
                </a:solidFill>
                <a:latin typeface="Arial"/>
              </a:rPr>
              <a:t>Meinungen zu SHS- und Stromnutzung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57200" y="1268280"/>
            <a:ext cx="64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SHS-Nut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68360" y="1700280"/>
            <a:ext cx="867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ufriedenheit mit S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068720" y="5667480"/>
            <a:ext cx="12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 der SHS-H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577B4A-EACB-4855-8EA0-5C2E1FAC218D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69696"/>
                </a:solidFill>
                <a:latin typeface="Arial"/>
              </a:rPr>
              <a:t>Meinungen zu SHS- und Stromnutzung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57200" y="1268280"/>
            <a:ext cx="64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SHS-Nut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8360" y="1700280"/>
            <a:ext cx="867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chteile des S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611280" y="2138400"/>
          <a:ext cx="8215200" cy="36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8400"/>
                    <a:ext cx="821520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6084720" y="4941720"/>
            <a:ext cx="2376720" cy="27648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hrfachnennung mögl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038560" y="5667480"/>
            <a:ext cx="122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 der SHS-H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C97AE3-4DC0-420A-B0A9-0FF757F6739F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203040" y="2205000"/>
          <a:ext cx="8562960" cy="40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" y="2205000"/>
                    <a:ext cx="8562960" cy="40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69696"/>
                </a:solidFill>
                <a:latin typeface="Arial"/>
              </a:rPr>
              <a:t>Meinungen zu SHS- und Stromnutzung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" y="1268280"/>
            <a:ext cx="64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Haushalte ohne St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68360" y="1700280"/>
            <a:ext cx="867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rum verwenden Sie kein SHS in Ihrem Haushal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06920" y="6165720"/>
            <a:ext cx="18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 der HH ohne S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940360" y="5421240"/>
            <a:ext cx="2376720" cy="27648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hrfachnennung mögl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506C77-D965-49C5-B9EA-7F79E4BF926A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99999"/>
                </a:solidFill>
                <a:latin typeface="Arial"/>
              </a:rPr>
              <a:t>Aktivitäten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700280"/>
            <a:ext cx="821844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itutionen- und Politikbera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örderung von Technologien aus dem Bereich regenerativer Energ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gas (z.B. in Geflügelfarm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besserte Her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Solar Home Systems (SH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 Solar Home Systems (SSHS; Pilotmaßnah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7713B9-0B20-4164-BF07-D36A78A459D8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1" name=""/>
          <p:cNvGraphicFramePr/>
          <p:nvPr/>
        </p:nvGraphicFramePr>
        <p:xfrm>
          <a:off x="203040" y="2205000"/>
          <a:ext cx="8562960" cy="40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" y="2205000"/>
                    <a:ext cx="8562960" cy="40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69696"/>
                </a:solidFill>
                <a:latin typeface="Arial"/>
              </a:rPr>
              <a:t>Meinungen zu SHS- und Stromnutzung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268280"/>
            <a:ext cx="64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Haushalte ohne St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68360" y="1700280"/>
            <a:ext cx="867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ür was würden Sie Strom am liebsten verwend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606920" y="6165720"/>
            <a:ext cx="18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 der HH ohne St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940360" y="5421240"/>
            <a:ext cx="2376720" cy="27648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hrfachnennung mögl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42E056-E05F-486D-9A7C-C2A1CB6D89FA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69696"/>
                </a:solidFill>
                <a:latin typeface="Arial"/>
              </a:rPr>
              <a:t>Meinungen zu SHS- und Stromnutzung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57200" y="1268280"/>
            <a:ext cx="64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Haushalte ohne St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8360" y="1700280"/>
            <a:ext cx="867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om aus welcher Stromquelle würden Sie bevorzug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681360" y="4307040"/>
            <a:ext cx="18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 der HH ohne St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3276720" y="1917720"/>
          <a:ext cx="2565360" cy="27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917720"/>
                    <a:ext cx="256536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"/>
          <p:cNvSpPr/>
          <p:nvPr/>
        </p:nvSpPr>
        <p:spPr>
          <a:xfrm>
            <a:off x="2735280" y="4724280"/>
            <a:ext cx="792000" cy="360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229440" y="4724280"/>
            <a:ext cx="792000" cy="3603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564000" y="47242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021440" y="47242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089240" y="2276640"/>
            <a:ext cx="6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449600" y="3606840"/>
            <a:ext cx="6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50920" y="5311800"/>
            <a:ext cx="1584360" cy="824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eso gerade von dieser Stromquell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08240" y="5189400"/>
            <a:ext cx="2868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omversorgung ohne Unterbrechu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kein Load Shedd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cherhe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651640" y="5218200"/>
            <a:ext cx="28684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tzung sämtlicher Geräte mögl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ünstiger Pre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AE8878-D5AC-4DED-8E3C-5049EEAFC491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2966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99999"/>
                </a:solidFill>
                <a:latin typeface="Arial"/>
              </a:rPr>
              <a:t>4. </a:t>
            </a:r>
            <a:r>
              <a:rPr b="1" lang="en-GB" sz="2200" spc="-1" strike="noStrike">
                <a:solidFill>
                  <a:srgbClr val="999999"/>
                </a:solidFill>
                <a:latin typeface="Arial"/>
              </a:rPr>
              <a:t>Zusammenfassung und Empfehlungen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99999"/>
                </a:solidFill>
                <a:latin typeface="Arial"/>
              </a:rPr>
              <a:t>Ökonomische Aspekte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68360" y="1700280"/>
            <a:ext cx="821844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Ökonomische Wirkun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urch SHS sind nur sehr begrenzt festzustel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gfristige Einsparungen durch Kerosinersat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Einzelfällen produktive Nutzung in Haushal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tzung von SHS in Bazar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lativierung durch Wettbewerbsverschärfung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pfehlung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ktive Stromnutzung vorantreib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wicklung von Geräten (z.B. Nähmaschinen), welche mit SHS genutzt werden können, Ausbildungsmöglichkeiten für produktive Tätigkeiten in den Abendstunden (z.B. Nähen, Herstellung von Kunsthandwer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stärkte Ausweitung der SHS-Verbreitung auf Bazare und Geflügelfar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mfassende Studie zu Wirkungen der SHS in Baza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5655CB-F9FB-4FEB-8F34-E602A3B72991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99999"/>
                </a:solidFill>
                <a:latin typeface="Arial"/>
              </a:rPr>
              <a:t>Soziale Aspekte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68360" y="1700280"/>
            <a:ext cx="821844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oziale Wirkun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nd zahlreich vorhanden und führen meist zu subjektiv besser bewerteten Lebensbeding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s- und Unterhaltungsmöglichkeiten durch TV/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leichterte Arbeitsbedingungen im Haushal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ssere Bedingungen zum Lesen/Lernen am Abend insbesondere für K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ekommunikationsmöglichkeiten durch Ladegeräte für Mobiltelef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höhtes Sicherheitsempfin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ziale Aktivitäten in den Abendstunden werden erleicht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pfehlung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fklärung und Information zum Weiterbildungsangebot in Funk und Fernse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0DCD42-7A13-4319-B2BE-F875822F7688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99999"/>
                </a:solidFill>
                <a:latin typeface="Arial"/>
              </a:rPr>
              <a:t>Ökologische Aspekte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68360" y="1700280"/>
            <a:ext cx="821844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ls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ökologische Wirkungen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lassen sich anführ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meidung von CO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atterieflut“-Problemat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mpfehlung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ehr Aufklärungsarbeit durch die NGOs notwendig bzgl. des Umgangs mit alten Batter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s sollte von Seiten GTZ/IDCOL mehr Betonung auf die Wichtigkeit eines funktionierenden Batterie-Rücknahmesystems gelegt wer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onitoring der tatsächlichen Batterierückläu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D16F2A-BABC-4A9B-9EA6-15BA42E49F30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99999"/>
                </a:solidFill>
                <a:latin typeface="Arial"/>
              </a:rPr>
              <a:t>Sonstige Erkenntnisse und Empfehlungen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68360" y="1700280"/>
            <a:ext cx="82184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tzer wünschen sich eine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erhöhte Systemleistung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(Deckenventilatoren, Farbfernsehgeräte)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mpfehlu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gebot von preisgünstigen Systemerweiterungen z.B. durch ein zusätzliches PV-Pa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e Nutzer der SHS gehören zumeist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einkommensstärkeren Schichte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, es besteht daher die Gefahr, dass sich soziale Unterschiede innerhalb der Dörfer verstärken.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mpfehlu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onzentration auf ärmere Bevölkerungsteile, z.B. durch Kleinstsysteme (SSH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direkte Nutzung durch die Verbreitung von Geschäftsideen wie dem Aufladen von Mobiltelefonen gegen Gebühr unterstüt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83B297-40D4-4E3F-BA7E-F1D92AC2C20F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99999"/>
                </a:solidFill>
                <a:latin typeface="Arial"/>
              </a:rPr>
              <a:t>Endergebnis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68360" y="1700280"/>
            <a:ext cx="82184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ar Home Systeme verbessern direkt di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bjektiv empfundenen Lebensqualitä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r ländlichen Bevölkerung, insbesondere der ländlichen Mittel- und Oberschic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ch das verbesserte Informations- und Kommunikationsangebo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fitieren indirekt auch ärmere Haushal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on den Solar Home Syste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gfristig können sich di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ahmenbedingungen für ökonomische Entwicklun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z.B. durch verbesserte Informations-, Kommunikations- und Bildungsmöglichkeiten verbess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n kurz- oder mittelfristiger „Big Push“ für die ländliche Entwicklung in Bangladesch ist durch die Verbreitung von Solar Home Systeme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ich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zu erwar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3E1E0D-D85B-4071-994E-00D62FFD0944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9999"/>
                </a:solidFill>
                <a:latin typeface="Arial"/>
              </a:rPr>
              <a:t>Vielen Dank für Ihre Aufmerksamkeit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09480" y="6021360"/>
            <a:ext cx="7772400" cy="3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chael.Blunck@gtz.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2268360" y="1989000"/>
            <a:ext cx="4680000" cy="351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99999"/>
                </a:solidFill>
                <a:latin typeface="Arial"/>
              </a:rPr>
              <a:t>Aufbau eines Solar Home Systems (SHS)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25480" y="2278080"/>
            <a:ext cx="2809800" cy="3743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914560" y="1436400"/>
            <a:ext cx="1060200" cy="337320"/>
          </a:xfrm>
          <a:prstGeom prst="rect">
            <a:avLst/>
          </a:prstGeom>
          <a:solidFill>
            <a:srgbClr val="96969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V-Pa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454560" y="1792080"/>
            <a:ext cx="0" cy="48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435640" y="2003400"/>
          <a:ext cx="3511440" cy="409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35640" y="2003400"/>
                    <a:ext cx="3511440" cy="40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716280" y="2344680"/>
            <a:ext cx="21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mpe(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16280" y="3016080"/>
            <a:ext cx="21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/W Fernsehgerä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98920" y="356868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degerä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biltelef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19640" y="4216320"/>
            <a:ext cx="27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o /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ssettenrek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98920" y="503244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nti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78440" y="5958000"/>
            <a:ext cx="236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 der HH mit S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68840" y="1724040"/>
            <a:ext cx="32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tzung von Endgerä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F65019-11EB-482B-B447-6E3575A2065B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99999"/>
                </a:solidFill>
                <a:latin typeface="Arial"/>
              </a:rPr>
              <a:t>Verbreitung von Solar Home Systems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1700280"/>
            <a:ext cx="821844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Akteure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rastructure Development Company Ltd. (IDCOL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m Staatseigentum befindliche Finanzinstitution zur Finanzierung von Infrastrukturprojek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eit 2003 Verwalter von IDA/GEF-Mittel zur Verbreitung von Solar Home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gabe von Zuschüssen und Refinanzierungsmitteln für sog. „participating organisations“ (P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rganisation von SHS-Werbekampagnen, Trainings für Techniker und Kunden der 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DCOL verfügt über ein effektives Monitoring-System und steht in engem Kontakt mit Vertretern der 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270920" y="1231920"/>
            <a:ext cx="934920" cy="93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C17253-D7CE-43BA-8248-9AE48CFA20F8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99999"/>
                </a:solidFill>
                <a:latin typeface="Arial"/>
              </a:rPr>
              <a:t>Verbreitung von Solar Home Systems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1700280"/>
            <a:ext cx="821844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1700280"/>
            <a:ext cx="821844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Akteure (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: Privatunternehmen &amp; N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e Büros der POs vor Ort sind verantwortlich fü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kauf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artung und Kundendien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insammeln der monatlichen Ratenzahl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 verfügen über sehr gute Infrastruktur vor Ort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Grameen Shakti: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00 Büros in ländlichen Gebiet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516720" y="1417680"/>
            <a:ext cx="2170080" cy="163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238D59-4D9B-4B6C-B25B-798C37A6C514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99999"/>
                </a:solidFill>
                <a:latin typeface="Arial"/>
              </a:rPr>
              <a:t>Finanzierung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1700280"/>
            <a:ext cx="821844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1700280"/>
            <a:ext cx="821844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e POs bieten ihren Kunden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Mikrofinanzierung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a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15% Anzahlung durch den Kun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bzahlung des Restbetrags in bis zu 36 festen Monatsraten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e POs tragen 20% der Kosten des SHS zu Beginn selbst, 80% werden durch Refinanzierungsmittel von IDCOL gedec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9F0697-F35B-4FC7-BB3E-DD4183E25967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99999"/>
                </a:solidFill>
                <a:latin typeface="Arial"/>
              </a:rPr>
              <a:t>Finanzierung eines SHS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2014200"/>
            <a:ext cx="2303280" cy="337320"/>
          </a:xfrm>
          <a:prstGeom prst="rect">
            <a:avLst/>
          </a:prstGeom>
          <a:solidFill>
            <a:srgbClr val="b7d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0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71640" y="1916280"/>
            <a:ext cx="22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osten eines typischen 50W S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81080" y="2928600"/>
            <a:ext cx="2303640" cy="337320"/>
          </a:xfrm>
          <a:prstGeom prst="rect">
            <a:avLst/>
          </a:prstGeom>
          <a:solidFill>
            <a:srgbClr val="b7d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30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8000" y="2852640"/>
            <a:ext cx="18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DCOL-Zuschus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Subven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2928600"/>
            <a:ext cx="2303640" cy="337320"/>
          </a:xfrm>
          <a:prstGeom prst="rect">
            <a:avLst/>
          </a:prstGeom>
          <a:solidFill>
            <a:srgbClr val="b7d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90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04000" y="2784600"/>
            <a:ext cx="234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is des subventionierten S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81080" y="3936600"/>
            <a:ext cx="2303640" cy="337320"/>
          </a:xfrm>
          <a:prstGeom prst="rect">
            <a:avLst/>
          </a:prstGeom>
          <a:solidFill>
            <a:srgbClr val="b7d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4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920" y="3794040"/>
            <a:ext cx="201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zahlung durch den Kunden (15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3936600"/>
            <a:ext cx="2303640" cy="337320"/>
          </a:xfrm>
          <a:prstGeom prst="rect">
            <a:avLst/>
          </a:prstGeom>
          <a:solidFill>
            <a:srgbClr val="b7d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46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3860640"/>
            <a:ext cx="234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u finanzierender Betr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944600"/>
            <a:ext cx="2303640" cy="337320"/>
          </a:xfrm>
          <a:prstGeom prst="rect">
            <a:avLst/>
          </a:prstGeom>
          <a:solidFill>
            <a:srgbClr val="b7d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9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4944600"/>
            <a:ext cx="2303640" cy="337320"/>
          </a:xfrm>
          <a:prstGeom prst="rect">
            <a:avLst/>
          </a:prstGeom>
          <a:solidFill>
            <a:srgbClr val="b7d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7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920" y="494496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rch PO getr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20000" y="4869000"/>
            <a:ext cx="201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inanzierung durch IDC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"/>
          <p:cNvCxnSpPr>
            <a:stCxn id="89" idx="2"/>
          </p:cNvCxnSpPr>
          <p:nvPr/>
        </p:nvCxnSpPr>
        <p:spPr>
          <a:xfrm flipH="1">
            <a:off x="3203280" y="2350800"/>
            <a:ext cx="1152720" cy="5785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4" name=""/>
          <p:cNvCxnSpPr>
            <a:stCxn id="89" idx="2"/>
            <a:endCxn id="93" idx="0"/>
          </p:cNvCxnSpPr>
          <p:nvPr/>
        </p:nvCxnSpPr>
        <p:spPr>
          <a:xfrm>
            <a:off x="4355640" y="2350800"/>
            <a:ext cx="1369080" cy="5785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5" name=""/>
          <p:cNvCxnSpPr>
            <a:stCxn id="93" idx="2"/>
            <a:endCxn id="97" idx="0"/>
          </p:cNvCxnSpPr>
          <p:nvPr/>
        </p:nvCxnSpPr>
        <p:spPr>
          <a:xfrm>
            <a:off x="5724000" y="3265200"/>
            <a:ext cx="1080" cy="672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6" name=""/>
          <p:cNvCxnSpPr>
            <a:stCxn id="97" idx="2"/>
            <a:endCxn id="100" idx="0"/>
          </p:cNvCxnSpPr>
          <p:nvPr/>
        </p:nvCxnSpPr>
        <p:spPr>
          <a:xfrm>
            <a:off x="5724000" y="4273200"/>
            <a:ext cx="1080" cy="672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7" name=""/>
          <p:cNvCxnSpPr>
            <a:stCxn id="93" idx="2"/>
            <a:endCxn id="95" idx="0"/>
          </p:cNvCxnSpPr>
          <p:nvPr/>
        </p:nvCxnSpPr>
        <p:spPr>
          <a:xfrm flipH="1">
            <a:off x="3133440" y="3265200"/>
            <a:ext cx="2591280" cy="672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8" name=""/>
          <p:cNvCxnSpPr>
            <a:stCxn id="97" idx="2"/>
            <a:endCxn id="99" idx="0"/>
          </p:cNvCxnSpPr>
          <p:nvPr/>
        </p:nvCxnSpPr>
        <p:spPr>
          <a:xfrm flipH="1">
            <a:off x="3133440" y="4273200"/>
            <a:ext cx="2591280" cy="672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109" name=""/>
          <p:cNvSpPr/>
          <p:nvPr/>
        </p:nvSpPr>
        <p:spPr>
          <a:xfrm>
            <a:off x="0" y="5665680"/>
            <a:ext cx="19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velopment Grant für PO je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5832000"/>
            <a:ext cx="574920" cy="337320"/>
          </a:xfrm>
          <a:prstGeom prst="rect">
            <a:avLst/>
          </a:prstGeom>
          <a:solidFill>
            <a:srgbClr val="d2e0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8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43280" y="5665680"/>
            <a:ext cx="201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waltungsgebühr IDCOL je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32360" y="5832000"/>
            <a:ext cx="647640" cy="337320"/>
          </a:xfrm>
          <a:prstGeom prst="rect">
            <a:avLst/>
          </a:prstGeom>
          <a:solidFill>
            <a:srgbClr val="d2e0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13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24360" y="566568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DGIS/GTZ-Anteil</a:t>
            </a:r>
            <a:br>
              <a:rPr sz="1600"/>
            </a:b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 je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67640" y="5832000"/>
            <a:ext cx="64764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51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88D183-53E7-4F0D-BD14-8ACF20E58020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8T10:21:36Z</dcterms:created>
  <dc:creator>Michael Blunck</dc:creator>
  <dc:description/>
  <dc:language>en-US</dc:language>
  <cp:lastModifiedBy>gtz</cp:lastModifiedBy>
  <cp:lastPrinted>2005-12-21T12:33:01Z</cp:lastPrinted>
  <dcterms:modified xsi:type="dcterms:W3CDTF">2007-01-29T12:55:43Z</dcterms:modified>
  <cp:revision>1189</cp:revision>
  <dc:subject/>
  <dc:title>Wirkungen von SHS in Banglades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95462841</vt:r8>
  </property>
  <property fmtid="{D5CDD505-2E9C-101B-9397-08002B2CF9AE}" pid="3" name="_AuthorEmail">
    <vt:lpwstr>Michael.Blunck@gtz.de</vt:lpwstr>
  </property>
  <property fmtid="{D5CDD505-2E9C-101B-9397-08002B2CF9AE}" pid="4" name="_AuthorEmailDisplayName">
    <vt:lpwstr>Blunck Michael GTZ 4413</vt:lpwstr>
  </property>
  <property fmtid="{D5CDD505-2E9C-101B-9397-08002B2CF9AE}" pid="5" name="_EmailSubject">
    <vt:lpwstr>SHS Bangladesch PP</vt:lpwstr>
  </property>
  <property fmtid="{D5CDD505-2E9C-101B-9397-08002B2CF9AE}" pid="6" name="_NewReviewCycle">
    <vt:lpwstr/>
  </property>
</Properties>
</file>